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CB0-29DD-45CB-B558-C46E6634E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D59C-D24B-49E0-B969-74C86E9C165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B73-53AA-4BE1-BF2D-6EE16658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82D-C124-468A-9B90-8EE5F1B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F65-8C1C-43D7-8CC3-4F3DE5FB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6D3-B84A-4749-80FE-75FD9903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7FC5-B04C-4341-82D4-1332F21F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AA0E-7121-42B9-B4D5-91A5CCDD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6856-7069-4813-91D4-55EFD19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A2C-35FC-41BA-BA81-0E193FAE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792-E6D5-4204-9378-EAC51E7F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8420-C4FF-4FAB-97F6-0D66503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8A76-D431-45CB-AB38-524D1EA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39A-546D-4A5D-9549-B981C259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8F3A-8765-425E-B0B6-6D04460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7F41-AA64-402D-8FAF-4402186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36A8-B67D-405F-857E-1D4834C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EB0C-5F21-48E7-81C0-32D4587C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439-EC46-4FC0-A4FA-C8087A59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BB1-A720-480E-B736-E0125B20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D6B-CC4D-4D1F-9E75-C10DB8D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1D4-AA99-40CF-A19F-668CCF09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9D1-DDA9-4A72-B1C5-BE54CA27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DE7-A27B-47C4-B989-F0068BA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AEB-8667-4053-BBB1-00A21F71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D0C-C1C9-488E-9D44-31B708F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e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2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295e7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295e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c1ce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1cee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6732-A262-4ECE-9E51-8D1190AF70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e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2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295e7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c1ce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1cee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377-8D9F-4C96-B10C-716A392AAFB9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a/Homeric_Greece.svg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upload.wikimedia.org/wikipedia/commons/9/9a/Homeric_Greece.svg" TargetMode="Externa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einrich-Schliemann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panoramio.com/photo/35403604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panoramio.com/photo/38991918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panoramio.com/photo/26351964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www.panoramio.com/photo/15251268" TargetMode="External"/><Relationship Id="rId11" Type="http://schemas.openxmlformats.org/officeDocument/2006/relationships/image" Target="../media/image22.jpeg"/><Relationship Id="rId12" Type="http://schemas.openxmlformats.org/officeDocument/2006/relationships/hyperlink" Target="http://www.panoramio.com/photo/1296726" TargetMode="External"/><Relationship Id="rId13" Type="http://schemas.openxmlformats.org/officeDocument/2006/relationships/image" Target="../media/image23.jpeg"/><Relationship Id="rId14" Type="http://schemas.openxmlformats.org/officeDocument/2006/relationships/hyperlink" Target="http://www.panoramio.com/photo/38323314" TargetMode="External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riumph_of_Achilles_in_Corfu_Achilleion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en.wikipedia.org/wiki/File:Hydria_Achilles_weapons_Louvre_E869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en.wikipedia.org/wiki/File:Mykonos_vase.jpg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en.wikipedia.org/wiki/File:Trojan_horse_&#199;anakkale.jpg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www.google.com/url?sa=t&amp;source=video&amp;cd=1&amp;ved=0CDAQtwIwAA&amp;url=http%3A%2F%2Fwww.youtube.com%2Fwatch%3Fv%3Dhf4IoxEUmHM&amp;ei=1UvdTIGDJYL48AaagKXvDw&amp;usg=AFQjCNFwUPYJpZnT1eyKKbI4FVJv1iosdA" TargetMode="External"/><Relationship Id="rId10" Type="http://schemas.openxmlformats.org/officeDocument/2006/relationships/hyperlink" Target="http://www.youtube.com/watch?v=dWkSvtwCtqM&amp;safety_mode=true&amp;persist_safety_mode=1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00"/>
                </a:solidFill>
                <a:latin typeface="Times New Roman"/>
              </a:rPr>
              <a:t>Classical Civilizations: Greece</a:t>
            </a:r>
            <a:endParaRPr b="0" lang="en-US" sz="6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SECTION 1 Cultures of the 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Mountains and the Sea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Mr. Pagliaro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Seymour High School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File:Homeric Greec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29800" cy="68263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9"/>
          <p:cNvGrpSpPr/>
          <p:nvPr/>
        </p:nvGrpSpPr>
        <p:grpSpPr>
          <a:xfrm>
            <a:off x="304920" y="380880"/>
            <a:ext cx="8534160" cy="5910480"/>
            <a:chOff x="304920" y="380880"/>
            <a:chExt cx="8534160" cy="5910480"/>
          </a:xfrm>
        </p:grpSpPr>
        <p:pic>
          <p:nvPicPr>
            <p:cNvPr id="150" name="Picture 7" descr="File:Homeric Greece.svg">
              <a:hlinkClick r:id="rId3"/>
            </p:cNvPr>
            <p:cNvPicPr/>
            <p:nvPr/>
          </p:nvPicPr>
          <p:blipFill>
            <a:blip r:embed="rId4"/>
            <a:srcRect l="53411" t="2665" r="972" b="57335"/>
            <a:stretch/>
          </p:blipFill>
          <p:spPr>
            <a:xfrm>
              <a:off x="762120" y="380880"/>
              <a:ext cx="8076960" cy="59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8"/>
            <p:cNvSpPr/>
            <p:nvPr/>
          </p:nvSpPr>
          <p:spPr>
            <a:xfrm>
              <a:off x="304920" y="2019240"/>
              <a:ext cx="1600200" cy="60984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28074"/>
                <a:gd name="adj5" fmla="val 306250"/>
                <a:gd name="adj6" fmla="val 152379"/>
              </a:avLst>
            </a:prstGeom>
            <a:solidFill>
              <a:srgbClr val="c3dfe9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5e70"/>
                  </a:solidFill>
                  <a:latin typeface="Arial"/>
                </a:rPr>
                <a:t>Hellespont</a:t>
              </a:r>
              <a:endParaRPr b="0" lang="en-US" sz="20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cal Greek Trade Rou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66680" y="1760400"/>
            <a:ext cx="6782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9"/>
          <p:cNvSpPr/>
          <p:nvPr/>
        </p:nvSpPr>
        <p:spPr>
          <a:xfrm>
            <a:off x="152280" y="5867280"/>
            <a:ext cx="4953240" cy="825480"/>
          </a:xfrm>
          <a:prstGeom prst="rect">
            <a:avLst/>
          </a:prstGeom>
          <a:solidFill>
            <a:srgbClr val="80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d Homer’s epics to discover Troy and other Mycenaean sit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Heinrich Schlieman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&amp; Tro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6" name="Picture 5" descr="150px-Heinrich-Schlieman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81080"/>
            <a:ext cx="2833920" cy="32943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8"/>
          <p:cNvSpPr txBox="1"/>
          <p:nvPr/>
        </p:nvSpPr>
        <p:spPr>
          <a:xfrm>
            <a:off x="457200" y="480060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inrich</a:t>
            </a:r>
            <a:endParaRPr b="0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hliemann</a:t>
            </a:r>
            <a:endParaRPr b="0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8" name="Picture 10" descr="200px-MaskeAgamemnon"/>
          <p:cNvPicPr/>
          <p:nvPr/>
        </p:nvPicPr>
        <p:blipFill>
          <a:blip r:embed="rId3"/>
          <a:stretch/>
        </p:blipFill>
        <p:spPr>
          <a:xfrm>
            <a:off x="3505320" y="1828800"/>
            <a:ext cx="1904760" cy="1924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505320" y="3809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sk of Agamemno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0" name="Picture 13" descr="220px-Troy1"/>
          <p:cNvPicPr/>
          <p:nvPr/>
        </p:nvPicPr>
        <p:blipFill>
          <a:blip r:embed="rId4"/>
          <a:stretch/>
        </p:blipFill>
        <p:spPr>
          <a:xfrm>
            <a:off x="5486400" y="2057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350px-Plan_Troy-Hisarlik-en"/>
          <p:cNvPicPr/>
          <p:nvPr/>
        </p:nvPicPr>
        <p:blipFill>
          <a:blip r:embed="rId5"/>
          <a:stretch/>
        </p:blipFill>
        <p:spPr>
          <a:xfrm>
            <a:off x="3352680" y="1630440"/>
            <a:ext cx="5791320" cy="5227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200px-Troy_VIIb_hieroglyphic_seal_reverse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e Greek Oral Tradition: Storytell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726840"/>
          </a:xfrm>
          <a:prstGeom prst="rect">
            <a:avLst/>
          </a:prstGeom>
          <a:solidFill>
            <a:srgbClr val="ffe066"/>
          </a:solidFill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esop-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. 600s BC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708ed1">
              <a:alpha val="7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bl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ell moral tale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ught valu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4720" y="1447560"/>
            <a:ext cx="4041720" cy="726840"/>
          </a:xfrm>
          <a:prstGeom prst="rect">
            <a:avLst/>
          </a:prstGeom>
          <a:solidFill>
            <a:srgbClr val="ffe066"/>
          </a:solidFill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omer-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. 1100s BC/800s BC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587a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liad &amp;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dysse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pic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aught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oral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reek ideal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ltiple authors?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8" name="Picture 5" descr="150px-Aesop_pushkin01"/>
          <p:cNvPicPr/>
          <p:nvPr/>
        </p:nvPicPr>
        <p:blipFill>
          <a:blip r:embed="rId1"/>
          <a:stretch/>
        </p:blipFill>
        <p:spPr>
          <a:xfrm>
            <a:off x="2362320" y="3352680"/>
            <a:ext cx="1768320" cy="266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http://upload.wikimedia.org/wikipedia/commons/thumb/0/0b/William-Adolphe_Bouguereau_%281825-1905%29_-_Homer_and_his_Guide_%281874%29.jpg/250px-William-Adolphe_Bouguereau_%281825-1905%29_-_Homer_and_his_Guide_%281874%29.jpg"/>
          <p:cNvPicPr/>
          <p:nvPr/>
        </p:nvPicPr>
        <p:blipFill>
          <a:blip r:embed="rId2"/>
          <a:stretch/>
        </p:blipFill>
        <p:spPr>
          <a:xfrm>
            <a:off x="6858000" y="2209680"/>
            <a:ext cx="1712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Dorian Inva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solidFill>
            <a:srgbClr val="0054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C. 1200 BC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3300"/>
                </a:solidFill>
                <a:latin typeface="Arial"/>
              </a:rPr>
              <a:t>End of Mycenaean culture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Major cities burned (Athens and Sparta remained)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Greece entered a Dark Age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 written record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Dorian Age/Dark Age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. 1150-750 B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ndo-Europe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Brought iron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Less advanced than Mycenae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No writing 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ycenaeans wrote similarly to Minoan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ormata-Regular"/>
              </a:rPr>
              <a:t>What impact did nearness to the sea have on the development of Greece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Why were the epics of importance to the Greeks of the Dorian period?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dentify the Mycenae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Explain how Greek culture is based on Mycenaean, Minoan, and Dorian culture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dentify Homer and the significance of Greek Epic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ey Ter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pic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yth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ojan Wa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inoa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ycenaea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einrich Schlieman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m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esop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terranean Geograph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5" name="Picture 4" descr="File:Mediterranean Sea political map-en.svg"/>
          <p:cNvPicPr/>
          <p:nvPr/>
        </p:nvPicPr>
        <p:blipFill>
          <a:blip r:embed="rId1"/>
          <a:stretch/>
        </p:blipFill>
        <p:spPr>
          <a:xfrm>
            <a:off x="1371600" y="1752480"/>
            <a:ext cx="5943600" cy="4346640"/>
          </a:xfrm>
          <a:prstGeom prst="rect">
            <a:avLst/>
          </a:prstGeom>
          <a:ln w="0">
            <a:noFill/>
          </a:ln>
        </p:spPr>
      </p:pic>
      <p:sp>
        <p:nvSpPr>
          <p:cNvPr id="106" name="Oval 7"/>
          <p:cNvSpPr/>
          <p:nvPr/>
        </p:nvSpPr>
        <p:spPr>
          <a:xfrm>
            <a:off x="4800600" y="3429000"/>
            <a:ext cx="1447920" cy="1447920"/>
          </a:xfrm>
          <a:prstGeom prst="ellipse">
            <a:avLst/>
          </a:prstGeom>
          <a:solidFill>
            <a:srgbClr val="ffff0d">
              <a:alpha val="30000"/>
            </a:srgbClr>
          </a:solidFill>
          <a:ln w="3492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3429000" y="1981080"/>
            <a:ext cx="4038480" cy="3657600"/>
            <a:chOff x="3429000" y="1981080"/>
            <a:chExt cx="4038480" cy="3657600"/>
          </a:xfrm>
        </p:grpSpPr>
        <p:pic>
          <p:nvPicPr>
            <p:cNvPr id="108" name="Picture 4" descr="File:Mediterranean Sea political map-en.svg"/>
            <p:cNvPicPr/>
            <p:nvPr/>
          </p:nvPicPr>
          <p:blipFill>
            <a:blip r:embed="rId2"/>
            <a:srcRect l="55133" t="36820" r="16667" b="25275"/>
            <a:stretch/>
          </p:blipFill>
          <p:spPr>
            <a:xfrm>
              <a:off x="3429000" y="198108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Oval 10"/>
            <p:cNvSpPr/>
            <p:nvPr/>
          </p:nvSpPr>
          <p:spPr>
            <a:xfrm>
              <a:off x="3795480" y="2150640"/>
              <a:ext cx="3487680" cy="3213360"/>
            </a:xfrm>
            <a:prstGeom prst="ellipse">
              <a:avLst/>
            </a:prstGeom>
            <a:solidFill>
              <a:srgbClr val="ffff0d">
                <a:alpha val="30000"/>
              </a:srgbClr>
            </a:solidFill>
            <a:ln w="34920">
              <a:solidFill>
                <a:srgbClr val="b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ek Settlem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2" descr="http://upload.wikimedia.org/wikipedia/commons/e/e6/Location_greek_ancient.pn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33520" y="1828800"/>
            <a:ext cx="785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ile:AntikeGriechen1.jpg"/>
          <p:cNvPicPr/>
          <p:nvPr/>
        </p:nvPicPr>
        <p:blipFill>
          <a:blip r:embed="rId2"/>
          <a:stretch/>
        </p:blipFill>
        <p:spPr>
          <a:xfrm>
            <a:off x="914400" y="1828800"/>
            <a:ext cx="7620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gions of Gree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rcRect l="70503" t="47113" r="2001" b="12888"/>
          <a:stretch/>
        </p:blipFill>
        <p:spPr>
          <a:xfrm>
            <a:off x="533520" y="1752480"/>
            <a:ext cx="4655880" cy="381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http://upload.wikimedia.org/wikipedia/commons/thumb/b/b6/Peloponnese_modis.jpg/102px-Peloponnese_modis.jpg"/>
          <p:cNvPicPr/>
          <p:nvPr/>
        </p:nvPicPr>
        <p:blipFill>
          <a:blip r:embed="rId2"/>
          <a:stretch/>
        </p:blipFill>
        <p:spPr>
          <a:xfrm>
            <a:off x="1447920" y="37339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ttp://upload.wikimedia.org/wikipedia/commons/thumb/b/b6/Peloponnese_modis.jpg/102px-Peloponnese_modis.jpg"/>
          <p:cNvPicPr/>
          <p:nvPr/>
        </p:nvPicPr>
        <p:blipFill>
          <a:blip r:embed="rId3"/>
          <a:stretch/>
        </p:blipFill>
        <p:spPr>
          <a:xfrm>
            <a:off x="5181480" y="1752480"/>
            <a:ext cx="3627720" cy="4267440"/>
          </a:xfrm>
          <a:prstGeom prst="rect">
            <a:avLst/>
          </a:prstGeom>
          <a:ln w="0">
            <a:noFill/>
          </a:ln>
        </p:spPr>
      </p:pic>
      <p:sp>
        <p:nvSpPr>
          <p:cNvPr id="117" name="Line Callout 2 (No Border) 6"/>
          <p:cNvSpPr/>
          <p:nvPr/>
        </p:nvSpPr>
        <p:spPr>
          <a:xfrm>
            <a:off x="5943600" y="1066680"/>
            <a:ext cx="1447920" cy="685800"/>
          </a:xfrm>
          <a:solidFill>
            <a:srgbClr val="c3dfe9"/>
          </a:solidFill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14e"/>
                </a:solidFill>
                <a:latin typeface="Arial"/>
              </a:rPr>
              <a:t>Isthmus of Corinth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Wave 7"/>
          <p:cNvSpPr/>
          <p:nvPr/>
        </p:nvSpPr>
        <p:spPr>
          <a:xfrm>
            <a:off x="5334120" y="3200400"/>
            <a:ext cx="1600200" cy="762120"/>
          </a:xfrm>
          <a:custGeom>
            <a:avLst/>
            <a:gdLst>
              <a:gd name="textAreaLeft" fmla="*/ 0 w 1600200"/>
              <a:gd name="textAreaRight" fmla="*/ 160056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3dfe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14e"/>
                </a:solidFill>
                <a:latin typeface="Arial"/>
              </a:rPr>
              <a:t>Peloponnes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Greek landscap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2" descr="http://upload.wikimedia.org/wikipedia/commons/thumb/3/35/Corinth_Isthmus.jpg/200px-Corinth_Isthmus.jpg"/>
          <p:cNvPicPr/>
          <p:nvPr/>
        </p:nvPicPr>
        <p:blipFill>
          <a:blip r:embed="rId1"/>
          <a:stretch/>
        </p:blipFill>
        <p:spPr>
          <a:xfrm>
            <a:off x="533520" y="1752480"/>
            <a:ext cx="1904760" cy="254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upload.wikimedia.org/wikipedia/commons/0/03/Gulf_of_Corinth.JPG"/>
          <p:cNvPicPr/>
          <p:nvPr/>
        </p:nvPicPr>
        <p:blipFill>
          <a:blip r:embed="rId2"/>
          <a:stretch/>
        </p:blipFill>
        <p:spPr>
          <a:xfrm>
            <a:off x="2438280" y="1752480"/>
            <a:ext cx="4181760" cy="281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le:Greece Santorini Oia Coast by day.JPG"/>
          <p:cNvPicPr/>
          <p:nvPr/>
        </p:nvPicPr>
        <p:blipFill>
          <a:blip r:embed="rId3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File:Pontikonisi.jpg"/>
          <p:cNvPicPr/>
          <p:nvPr/>
        </p:nvPicPr>
        <p:blipFill>
          <a:blip r:embed="rId4"/>
          <a:stretch/>
        </p:blipFill>
        <p:spPr>
          <a:xfrm>
            <a:off x="152280" y="1752480"/>
            <a:ext cx="5079960" cy="381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upload.wikimedia.org/wikipedia/commons/thumb/7/79/Kato-Lousi-D056-0831.jpg/220px-Kato-Lousi-D056-0831.jpg"/>
          <p:cNvPicPr/>
          <p:nvPr/>
        </p:nvPicPr>
        <p:blipFill>
          <a:blip r:embed="rId5"/>
          <a:stretch/>
        </p:blipFill>
        <p:spPr>
          <a:xfrm>
            <a:off x="3809880" y="19810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http://upload.wikimedia.org/wikipedia/commons/thumb/7/7d/SamariaGorge.jpg/200px-SamariaGorge.jpg"/>
          <p:cNvPicPr/>
          <p:nvPr/>
        </p:nvPicPr>
        <p:blipFill>
          <a:blip r:embed="rId6"/>
          <a:stretch/>
        </p:blipFill>
        <p:spPr>
          <a:xfrm>
            <a:off x="1371600" y="1752480"/>
            <a:ext cx="2362320" cy="337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http://upload.wikimedia.org/wikipedia/commons/thumb/3/39/Crete-Samaria.jpg/200px-Crete-Samaria.jpg"/>
          <p:cNvPicPr/>
          <p:nvPr/>
        </p:nvPicPr>
        <p:blipFill>
          <a:blip r:embed="rId7"/>
          <a:stretch/>
        </p:blipFill>
        <p:spPr>
          <a:xfrm>
            <a:off x="3809880" y="1752480"/>
            <a:ext cx="2667240" cy="3560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upload.wikimedia.org/wikipedia/commons/thumb/e/e6/Oiti05.jpg/250px-Oiti05.jpg"/>
          <p:cNvPicPr/>
          <p:nvPr/>
        </p:nvPicPr>
        <p:blipFill>
          <a:blip r:embed="rId8"/>
          <a:stretch/>
        </p:blipFill>
        <p:spPr>
          <a:xfrm>
            <a:off x="6477120" y="28954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Meandri Uvca - Zapadna Srbija"/>
          <p:cNvPicPr/>
          <p:nvPr/>
        </p:nvPicPr>
        <p:blipFill>
          <a:blip r:embed="rId9"/>
          <a:stretch/>
        </p:blipFill>
        <p:spPr>
          <a:xfrm>
            <a:off x="304920" y="1523880"/>
            <a:ext cx="3714480" cy="476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upload.wikimedia.org/wikipedia/commons/thumb/b/b4/Olympus_Litochoro.JPG/280px-Olympus_Litochoro.JPG"/>
          <p:cNvPicPr/>
          <p:nvPr/>
        </p:nvPicPr>
        <p:blipFill>
          <a:blip r:embed="rId10"/>
          <a:stretch/>
        </p:blipFill>
        <p:spPr>
          <a:xfrm>
            <a:off x="1752480" y="1981080"/>
            <a:ext cx="528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ek Coastl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5" descr="Greek_Coastline_2006_09_14_10_30_03"/>
          <p:cNvPicPr/>
          <p:nvPr/>
        </p:nvPicPr>
        <p:blipFill>
          <a:blip r:embed="rId1"/>
          <a:stretch/>
        </p:blipFill>
        <p:spPr>
          <a:xfrm>
            <a:off x="380880" y="17524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Stone forms in Sithonia"/>
          <p:cNvPicPr/>
          <p:nvPr/>
        </p:nvPicPr>
        <p:blipFill>
          <a:blip r:embed="rId2"/>
          <a:stretch/>
        </p:blipFill>
        <p:spPr>
          <a:xfrm>
            <a:off x="2057400" y="1752480"/>
            <a:ext cx="2514600" cy="163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Greek coastline"/>
          <p:cNvPicPr/>
          <p:nvPr/>
        </p:nvPicPr>
        <p:blipFill>
          <a:blip r:embed="rId3"/>
          <a:stretch/>
        </p:blipFill>
        <p:spPr>
          <a:xfrm>
            <a:off x="4572000" y="175248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354036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182880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3899191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34290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2635196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3276720"/>
            <a:ext cx="2286000" cy="140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1525126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129672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447920" y="4952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3832331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867280" y="51055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ojan Wa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0066"/>
                </a:solidFill>
                <a:latin typeface="Arial"/>
              </a:rPr>
              <a:t>Iliad-</a:t>
            </a:r>
            <a:r>
              <a:rPr b="0" lang="en-US" sz="3100" spc="-1" strike="noStrike">
                <a:solidFill>
                  <a:srgbClr val="ff0066"/>
                </a:solidFill>
                <a:latin typeface="Arial"/>
              </a:rPr>
              <a:t>Homer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Achaeans (Mycenaeans) vs. Troj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66"/>
                </a:solidFill>
                <a:latin typeface="Arial"/>
              </a:rPr>
              <a:t>Achilles!!!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2" name="Picture 9" descr="350px-Triumph_of_Achilles_in_Corfu_Achille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057400"/>
            <a:ext cx="5181840" cy="23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337px-Hydria_Achilles_weapons_Louvre_E8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04920"/>
            <a:ext cx="3210120" cy="176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300px-Mykonos_vas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95680"/>
            <a:ext cx="285768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132px-Trojan_horse_%C3%87anakk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4343400"/>
            <a:ext cx="15591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6">
            <a:hlinkClick r:id="rId9"/>
          </p:cNvPr>
          <p:cNvSpPr/>
          <p:nvPr/>
        </p:nvSpPr>
        <p:spPr>
          <a:xfrm>
            <a:off x="5257800" y="44956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AutoShape 17">
            <a:hlinkClick r:id="rId10"/>
          </p:cNvPr>
          <p:cNvSpPr/>
          <p:nvPr/>
        </p:nvSpPr>
        <p:spPr>
          <a:xfrm>
            <a:off x="5257800" y="54100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c3d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0:27:53Z</dcterms:created>
  <dc:creator>Christopher Pagliaro</dc:creator>
  <dc:description/>
  <dc:language>en-US</dc:language>
  <cp:lastModifiedBy>Christopher Pagliaro</cp:lastModifiedBy>
  <dcterms:modified xsi:type="dcterms:W3CDTF">2010-11-16T00:49:56Z</dcterms:modified>
  <cp:revision>17</cp:revision>
  <dc:subject/>
  <dc:title>Classical Civilizations: Gree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891033</vt:lpwstr>
  </property>
</Properties>
</file>